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464-D059-43A5-9940-37704785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76B-DAC2-4217-AFDB-31F0E134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AAA-848E-4C45-8A96-52BED5F8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883-27A5-48E4-BD94-1609BB26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42D-68F0-4835-96C7-E9BA8F2B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2C2-2E54-4FF6-894C-548F5088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678-7AA1-48EB-97A7-A39DC9F8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9B0-A9AC-42BD-9B4A-0F4730F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37F-883E-4D3B-99C6-69A27356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D09-447B-498F-96DB-DB2B9C87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990-358A-4063-A59B-61C50D0D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08E-5BBE-43A2-8039-7A7FE1DF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6DBBC-05EC-4DB9-BE35-E860568F5D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D69FA-D40C-4CDE-8A2F-87BB0B1E1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Ball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932200" y="1417680"/>
            <a:ext cx="329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5" descr="Flat Basketball.jpg"/>
          <p:cNvPicPr/>
          <p:nvPr/>
        </p:nvPicPr>
        <p:blipFill>
          <a:blip r:embed="rId1"/>
          <a:srcRect l="0" t="-20030" r="0" b="-2003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6" descr="Inflated Basketball.jpg"/>
          <p:cNvPicPr/>
          <p:nvPr/>
        </p:nvPicPr>
        <p:blipFill>
          <a:blip r:embed="rId2"/>
          <a:srcRect l="0" t="-6028" r="0" b="-6028"/>
          <a:stretch/>
        </p:blipFill>
        <p:spPr>
          <a:xfrm>
            <a:off x="5003640" y="1913040"/>
            <a:ext cx="3268800" cy="3662280"/>
          </a:xfrm>
          <a:prstGeom prst="rect">
            <a:avLst/>
          </a:prstGeom>
          <a:ln w="0">
            <a:noFill/>
          </a:ln>
        </p:spPr>
      </p:pic>
      <p:sp>
        <p:nvSpPr>
          <p:cNvPr id="48" name="Right Arrow 7"/>
          <p:cNvSpPr/>
          <p:nvPr/>
        </p:nvSpPr>
        <p:spPr>
          <a:xfrm>
            <a:off x="3960720" y="2992320"/>
            <a:ext cx="822240" cy="82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exert force onto something by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or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Push.jpg"/>
          <p:cNvPicPr/>
          <p:nvPr/>
        </p:nvPicPr>
        <p:blipFill>
          <a:blip r:embed="rId1"/>
          <a:stretch/>
        </p:blipFill>
        <p:spPr>
          <a:xfrm>
            <a:off x="1204920" y="2305080"/>
            <a:ext cx="287028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Pull.gif"/>
          <p:cNvPicPr/>
          <p:nvPr/>
        </p:nvPicPr>
        <p:blipFill>
          <a:blip r:embed="rId2"/>
          <a:stretch/>
        </p:blipFill>
        <p:spPr>
          <a:xfrm>
            <a:off x="5229360" y="2305080"/>
            <a:ext cx="2867040" cy="1979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377280" y="633744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of the individual particles add together to make up the pressure of th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Pressure Formula.png"/>
          <p:cNvPicPr/>
          <p:nvPr/>
        </p:nvPicPr>
        <p:blipFill>
          <a:blip r:embed="rId1"/>
          <a:srcRect l="0" t="-28023" r="0" b="-28023"/>
          <a:stretch/>
        </p:blipFill>
        <p:spPr>
          <a:xfrm>
            <a:off x="3014640" y="2498760"/>
            <a:ext cx="2805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pressure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unit of pressure is called 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mospheric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Straw.gif"/>
          <p:cNvPicPr/>
          <p:nvPr/>
        </p:nvPicPr>
        <p:blipFill>
          <a:blip r:embed="rId1"/>
          <a:srcRect l="-63643" t="0" r="-636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itude is the height above sea level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ltitude _____________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mospheric pressure 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Blaise Pascal.jpg"/>
          <p:cNvPicPr/>
          <p:nvPr/>
        </p:nvPicPr>
        <p:blipFill>
          <a:blip r:embed="rId1"/>
          <a:stretch/>
        </p:blipFill>
        <p:spPr>
          <a:xfrm>
            <a:off x="3519360" y="4110120"/>
            <a:ext cx="272916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8:04:48Z</dcterms:created>
  <dc:creator>Cleophis Carson</dc:creator>
  <dc:description/>
  <dc:language>en-US</dc:language>
  <cp:lastModifiedBy>Cleophis Carson</cp:lastModifiedBy>
  <cp:lastPrinted>2011-09-20T09:25:34Z</cp:lastPrinted>
  <dcterms:modified xsi:type="dcterms:W3CDTF">2011-09-20T09:39:12Z</dcterms:modified>
  <cp:revision>3</cp:revision>
  <dc:subject/>
  <dc:title>Pressure</dc:title>
</cp:coreProperties>
</file>